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6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a27c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8080" y="3219840"/>
            <a:ext cx="7925040" cy="27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solve compound inequalit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graph the solution sets of compound inequalit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d49f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) Graph 3 &lt; 2m + 1 &lt;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839080" cy="412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member, when written like this, it is an AND problem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&lt; 2m + 1 AND 2m + 1 &lt;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ve each inequa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 the intersection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&lt; m and m &lt; 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121760" y="5835960"/>
            <a:ext cx="6807600" cy="633960"/>
            <a:chOff x="1121760" y="5835960"/>
            <a:chExt cx="6807600" cy="633960"/>
          </a:xfrm>
        </p:grpSpPr>
        <p:sp>
          <p:nvSpPr>
            <p:cNvPr id="379" name=""/>
            <p:cNvSpPr/>
            <p:nvPr/>
          </p:nvSpPr>
          <p:spPr>
            <a:xfrm>
              <a:off x="1215720" y="5965920"/>
              <a:ext cx="662004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35760" y="59040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0" y="0"/>
                  </a:moveTo>
                  <a:lnTo>
                    <a:pt x="0" y="78"/>
                  </a:lnTo>
                  <a:lnTo>
                    <a:pt x="59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835760" y="5904000"/>
              <a:ext cx="1440" cy="123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835760" y="5965920"/>
              <a:ext cx="9360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7835760" y="5904000"/>
              <a:ext cx="9360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22120" y="5904000"/>
              <a:ext cx="12564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9" y="78"/>
                  </a:moveTo>
                  <a:lnTo>
                    <a:pt x="79" y="0"/>
                  </a:lnTo>
                  <a:lnTo>
                    <a:pt x="0" y="39"/>
                  </a:lnTo>
                  <a:lnTo>
                    <a:pt x="79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1247760" y="5904000"/>
              <a:ext cx="1440" cy="123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21760" y="5904000"/>
              <a:ext cx="12564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22120" y="5965920"/>
              <a:ext cx="12564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1815840" y="5842080"/>
              <a:ext cx="180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255760" y="5842080"/>
              <a:ext cx="14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697120" y="5842080"/>
              <a:ext cx="14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3170160" y="5842080"/>
              <a:ext cx="14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3611520" y="5842080"/>
              <a:ext cx="14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4084560" y="5842080"/>
              <a:ext cx="14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525920" y="5842080"/>
              <a:ext cx="14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967280" y="5842080"/>
              <a:ext cx="14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440320" y="5842080"/>
              <a:ext cx="14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5881680" y="5842080"/>
              <a:ext cx="14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6354720" y="5842080"/>
              <a:ext cx="14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796080" y="5842080"/>
              <a:ext cx="144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7237080" y="5842080"/>
              <a:ext cx="1800" cy="21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99920" y="602784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68640" y="602784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35800" y="599616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93480" y="599616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44920" y="5842080"/>
              <a:ext cx="189000" cy="24624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49760" y="5962680"/>
              <a:ext cx="228600" cy="0"/>
            </a:xfrm>
            <a:prstGeom prst="line">
              <a:avLst/>
            </a:prstGeom>
            <a:ln w="125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83040" y="5835960"/>
              <a:ext cx="189000" cy="24588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5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50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aec5e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) Graph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lt; 2 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≥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20720" y="4906440"/>
            <a:ext cx="7250040" cy="845640"/>
            <a:chOff x="720720" y="4906440"/>
            <a:chExt cx="7250040" cy="845640"/>
          </a:xfrm>
        </p:grpSpPr>
        <p:sp>
          <p:nvSpPr>
            <p:cNvPr id="410" name=""/>
            <p:cNvSpPr/>
            <p:nvPr/>
          </p:nvSpPr>
          <p:spPr>
            <a:xfrm>
              <a:off x="1066680" y="5248080"/>
              <a:ext cx="66200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86720" y="518616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0" y="0"/>
                  </a:moveTo>
                  <a:lnTo>
                    <a:pt x="0" y="78"/>
                  </a:lnTo>
                  <a:lnTo>
                    <a:pt x="59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86720" y="5186160"/>
              <a:ext cx="1440" cy="123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7686720" y="5248080"/>
              <a:ext cx="9360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7686720" y="5186160"/>
              <a:ext cx="9360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73080" y="5186160"/>
              <a:ext cx="12564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9" y="78"/>
                  </a:moveTo>
                  <a:lnTo>
                    <a:pt x="79" y="0"/>
                  </a:lnTo>
                  <a:lnTo>
                    <a:pt x="0" y="39"/>
                  </a:lnTo>
                  <a:lnTo>
                    <a:pt x="79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098720" y="5186160"/>
              <a:ext cx="1440" cy="123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972720" y="5186160"/>
              <a:ext cx="12564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73080" y="5248080"/>
              <a:ext cx="125640" cy="61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666800" y="5123880"/>
              <a:ext cx="180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2106720" y="5123880"/>
              <a:ext cx="14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2548080" y="5123880"/>
              <a:ext cx="14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021120" y="5123880"/>
              <a:ext cx="14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462480" y="5123880"/>
              <a:ext cx="14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3935520" y="5123880"/>
              <a:ext cx="14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376880" y="5123880"/>
              <a:ext cx="14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818240" y="5123880"/>
              <a:ext cx="14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291280" y="5123880"/>
              <a:ext cx="14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5732640" y="5123880"/>
              <a:ext cx="14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205680" y="5123880"/>
              <a:ext cx="14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647040" y="5123880"/>
              <a:ext cx="144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088040" y="5123880"/>
              <a:ext cx="1800" cy="21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50880" y="531000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519600" y="531000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86760" y="527796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044440" y="527796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95880" y="5124240"/>
              <a:ext cx="189000" cy="24588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41960" y="5154120"/>
              <a:ext cx="125640" cy="185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110280" y="5124240"/>
              <a:ext cx="189000" cy="245880"/>
            </a:xfrm>
            <a:prstGeom prst="ellipse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62080" y="5216040"/>
              <a:ext cx="4014720" cy="16200"/>
            </a:xfrm>
            <a:prstGeom prst="line">
              <a:avLst/>
            </a:prstGeom>
            <a:ln w="125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20720" y="4906800"/>
              <a:ext cx="566640" cy="618840"/>
            </a:xfrm>
            <a:custGeom>
              <a:avLst/>
              <a:gdLst/>
              <a:ahLst/>
              <a:rect l="l" t="t" r="r" b="b"/>
              <a:pathLst>
                <a:path w="357" h="390">
                  <a:moveTo>
                    <a:pt x="357" y="390"/>
                  </a:moveTo>
                  <a:lnTo>
                    <a:pt x="357" y="0"/>
                  </a:lnTo>
                  <a:lnTo>
                    <a:pt x="0" y="195"/>
                  </a:lnTo>
                  <a:lnTo>
                    <a:pt x="357" y="3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1287360" y="4906440"/>
              <a:ext cx="1800" cy="618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20720" y="4906800"/>
              <a:ext cx="566640" cy="309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20720" y="5216040"/>
              <a:ext cx="566640" cy="309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67600" y="5248080"/>
              <a:ext cx="1292040" cy="1440"/>
            </a:xfrm>
            <a:prstGeom prst="line">
              <a:avLst/>
            </a:prstGeom>
            <a:ln w="125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02680" y="4938480"/>
              <a:ext cx="568080" cy="619200"/>
            </a:xfrm>
            <a:custGeom>
              <a:avLst/>
              <a:gdLst/>
              <a:ahLst/>
              <a:rect l="l" t="t" r="r" b="b"/>
              <a:pathLst>
                <a:path w="358" h="390">
                  <a:moveTo>
                    <a:pt x="0" y="0"/>
                  </a:moveTo>
                  <a:lnTo>
                    <a:pt x="0" y="390"/>
                  </a:lnTo>
                  <a:lnTo>
                    <a:pt x="35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02680" y="4938480"/>
              <a:ext cx="1440" cy="619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402680" y="5248080"/>
              <a:ext cx="568080" cy="309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7402680" y="4938480"/>
              <a:ext cx="568080" cy="309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8cf4ea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) Graph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≥ -1 o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≤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685800" y="5562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whole line is shaded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957240" y="4286160"/>
          <a:ext cx="68706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4286160"/>
                    <a:ext cx="68706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da4b5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difference between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means inters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hat do the two items have in comm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 means un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f it is in one item, it is in th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72200" y="17524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41148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411480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38880" y="175248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60840" y="2133720"/>
            <a:ext cx="2921040" cy="19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60840" y="4470480"/>
            <a:ext cx="2921040" cy="1930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460840" y="2133720"/>
            <a:ext cx="2921040" cy="193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460840" y="4470480"/>
            <a:ext cx="2921040" cy="1930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aec5e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4572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Graph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&lt; 4 and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≥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43000" y="2971800"/>
            <a:ext cx="6934320" cy="1004760"/>
            <a:chOff x="1143000" y="2971800"/>
            <a:chExt cx="6934320" cy="1004760"/>
          </a:xfrm>
        </p:grpSpPr>
        <p:grpSp>
          <p:nvGrpSpPr>
            <p:cNvPr id="52" name=""/>
            <p:cNvGrpSpPr/>
            <p:nvPr/>
          </p:nvGrpSpPr>
          <p:grpSpPr>
            <a:xfrm>
              <a:off x="1143000" y="3252240"/>
              <a:ext cx="6819840" cy="724320"/>
              <a:chOff x="1143000" y="3252240"/>
              <a:chExt cx="6819840" cy="724320"/>
            </a:xfrm>
          </p:grpSpPr>
          <p:sp>
            <p:nvSpPr>
              <p:cNvPr id="53" name=""/>
              <p:cNvSpPr/>
              <p:nvPr/>
            </p:nvSpPr>
            <p:spPr>
              <a:xfrm>
                <a:off x="1244520" y="3379320"/>
                <a:ext cx="662940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61320" y="3303000"/>
                <a:ext cx="88920" cy="12672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73920" y="3315600"/>
                <a:ext cx="180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7873920" y="3378960"/>
                <a:ext cx="8892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flipV="1">
                <a:off x="7873560" y="331560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3000" y="3303000"/>
                <a:ext cx="127080" cy="1267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1282680" y="3315600"/>
                <a:ext cx="144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1155240" y="331560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55600" y="3379320"/>
                <a:ext cx="12708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2730600" y="325224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4559400" y="325224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6388200" y="325224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520520" y="34887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273000" y="34887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615400" y="34887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 flipV="1">
              <a:off x="2819520" y="3366360"/>
              <a:ext cx="5257800" cy="14040"/>
            </a:xfrm>
            <a:prstGeom prst="line">
              <a:avLst/>
            </a:prstGeom>
            <a:ln w="1015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56640" y="297180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c0128"/>
                  </a:solidFill>
                  <a:latin typeface="Times New Roman"/>
                  <a:ea typeface="Lucida Grande"/>
                </a:rPr>
                <a:t>●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33520" y="11430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) Graph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&lt;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5146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) Graph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≥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066320" y="1523880"/>
            <a:ext cx="6896520" cy="1029240"/>
            <a:chOff x="1066320" y="1523880"/>
            <a:chExt cx="6896520" cy="1029240"/>
          </a:xfrm>
        </p:grpSpPr>
        <p:grpSp>
          <p:nvGrpSpPr>
            <p:cNvPr id="73" name=""/>
            <p:cNvGrpSpPr/>
            <p:nvPr/>
          </p:nvGrpSpPr>
          <p:grpSpPr>
            <a:xfrm>
              <a:off x="1143000" y="1828800"/>
              <a:ext cx="6819840" cy="724320"/>
              <a:chOff x="1143000" y="1828800"/>
              <a:chExt cx="6819840" cy="724320"/>
            </a:xfrm>
          </p:grpSpPr>
          <p:sp>
            <p:nvSpPr>
              <p:cNvPr id="74" name=""/>
              <p:cNvSpPr/>
              <p:nvPr/>
            </p:nvSpPr>
            <p:spPr>
              <a:xfrm>
                <a:off x="1244520" y="1955880"/>
                <a:ext cx="66294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861320" y="1879560"/>
                <a:ext cx="88920" cy="12708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873920" y="1892160"/>
                <a:ext cx="180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7873920" y="195588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flipV="1">
                <a:off x="7873560" y="1891800"/>
                <a:ext cx="8892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43000" y="1879560"/>
                <a:ext cx="127080" cy="127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1282680" y="1891800"/>
                <a:ext cx="144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1155240" y="1892160"/>
                <a:ext cx="12708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55600" y="195588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730600" y="182880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4559400" y="182880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6388200" y="182880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520520" y="206532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73000" y="206532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615400" y="206532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H="1">
              <a:off x="1066320" y="1932120"/>
              <a:ext cx="5249880" cy="2880"/>
            </a:xfrm>
            <a:prstGeom prst="line">
              <a:avLst/>
            </a:prstGeom>
            <a:ln w="10152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73640" y="1523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33520" y="3809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) Combine the grap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143000" y="2971800"/>
            <a:ext cx="6934320" cy="1004040"/>
            <a:chOff x="1143000" y="2971800"/>
            <a:chExt cx="6934320" cy="1004040"/>
          </a:xfrm>
        </p:grpSpPr>
        <p:grpSp>
          <p:nvGrpSpPr>
            <p:cNvPr id="93" name=""/>
            <p:cNvGrpSpPr/>
            <p:nvPr/>
          </p:nvGrpSpPr>
          <p:grpSpPr>
            <a:xfrm>
              <a:off x="1143000" y="3252240"/>
              <a:ext cx="6819840" cy="723600"/>
              <a:chOff x="1143000" y="3252240"/>
              <a:chExt cx="6819840" cy="723600"/>
            </a:xfrm>
          </p:grpSpPr>
          <p:sp>
            <p:nvSpPr>
              <p:cNvPr id="94" name=""/>
              <p:cNvSpPr/>
              <p:nvPr/>
            </p:nvSpPr>
            <p:spPr>
              <a:xfrm>
                <a:off x="1244520" y="3379320"/>
                <a:ext cx="662940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61320" y="3303000"/>
                <a:ext cx="88920" cy="12672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873920" y="3315600"/>
                <a:ext cx="180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7873920" y="3378960"/>
                <a:ext cx="8892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7873560" y="331560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43000" y="3303000"/>
                <a:ext cx="127080" cy="1267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1282680" y="3315600"/>
                <a:ext cx="144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155240" y="331560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155600" y="3379320"/>
                <a:ext cx="12708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2730600" y="325224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4559400" y="325224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6388200" y="325224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624560" y="3488760"/>
                <a:ext cx="36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377040" y="3488760"/>
                <a:ext cx="36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719440" y="3488760"/>
                <a:ext cx="36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 flipV="1">
              <a:off x="2819520" y="3366360"/>
              <a:ext cx="5257800" cy="14040"/>
            </a:xfrm>
            <a:prstGeom prst="line">
              <a:avLst/>
            </a:prstGeom>
            <a:ln w="1015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56640" y="297180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c0128"/>
                  </a:solidFill>
                  <a:latin typeface="Times New Roman"/>
                  <a:ea typeface="Lucida Grande"/>
                </a:rPr>
                <a:t>●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066320" y="1523880"/>
            <a:ext cx="6896520" cy="1029240"/>
            <a:chOff x="1066320" y="1523880"/>
            <a:chExt cx="6896520" cy="1029240"/>
          </a:xfrm>
        </p:grpSpPr>
        <p:grpSp>
          <p:nvGrpSpPr>
            <p:cNvPr id="112" name=""/>
            <p:cNvGrpSpPr/>
            <p:nvPr/>
          </p:nvGrpSpPr>
          <p:grpSpPr>
            <a:xfrm>
              <a:off x="1143000" y="1828800"/>
              <a:ext cx="6819840" cy="724320"/>
              <a:chOff x="1143000" y="1828800"/>
              <a:chExt cx="6819840" cy="724320"/>
            </a:xfrm>
          </p:grpSpPr>
          <p:sp>
            <p:nvSpPr>
              <p:cNvPr id="113" name=""/>
              <p:cNvSpPr/>
              <p:nvPr/>
            </p:nvSpPr>
            <p:spPr>
              <a:xfrm>
                <a:off x="1244520" y="1955880"/>
                <a:ext cx="66294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861320" y="1879560"/>
                <a:ext cx="88920" cy="12708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873920" y="1892160"/>
                <a:ext cx="180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7873920" y="195588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flipV="1">
                <a:off x="7873560" y="1891800"/>
                <a:ext cx="8892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143000" y="1879560"/>
                <a:ext cx="127080" cy="127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1282680" y="1891800"/>
                <a:ext cx="144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1155240" y="1892160"/>
                <a:ext cx="12708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55600" y="195588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2730600" y="182880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4559400" y="182880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6388200" y="182880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20520" y="206532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73000" y="206532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615400" y="206532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 flipH="1">
              <a:off x="1066320" y="1932120"/>
              <a:ext cx="5249880" cy="2880"/>
            </a:xfrm>
            <a:prstGeom prst="line">
              <a:avLst/>
            </a:prstGeom>
            <a:ln w="10152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3640" y="1523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33520" y="50896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) Where do they inters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143000" y="5676840"/>
            <a:ext cx="6819840" cy="1029240"/>
            <a:chOff x="1143000" y="5676840"/>
            <a:chExt cx="6819840" cy="1029240"/>
          </a:xfrm>
        </p:grpSpPr>
        <p:sp>
          <p:nvSpPr>
            <p:cNvPr id="132" name=""/>
            <p:cNvSpPr/>
            <p:nvPr/>
          </p:nvSpPr>
          <p:spPr>
            <a:xfrm flipV="1">
              <a:off x="2819160" y="6119640"/>
              <a:ext cx="3428640" cy="14040"/>
            </a:xfrm>
            <a:prstGeom prst="line">
              <a:avLst/>
            </a:prstGeom>
            <a:ln w="1015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9440" y="5676840"/>
              <a:ext cx="521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c0128"/>
                  </a:solidFill>
                  <a:latin typeface="Times New Roman"/>
                  <a:ea typeface="Lucida Grande"/>
                </a:rPr>
                <a:t>●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1143000" y="5981760"/>
              <a:ext cx="6819840" cy="724320"/>
              <a:chOff x="1143000" y="5981760"/>
              <a:chExt cx="6819840" cy="724320"/>
            </a:xfrm>
          </p:grpSpPr>
          <p:sp>
            <p:nvSpPr>
              <p:cNvPr id="135" name=""/>
              <p:cNvSpPr/>
              <p:nvPr/>
            </p:nvSpPr>
            <p:spPr>
              <a:xfrm>
                <a:off x="1244520" y="6108840"/>
                <a:ext cx="66294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61320" y="6032520"/>
                <a:ext cx="88920" cy="12708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873920" y="6045120"/>
                <a:ext cx="180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7873920" y="610884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flipV="1">
                <a:off x="7873560" y="6044760"/>
                <a:ext cx="8892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43000" y="6032520"/>
                <a:ext cx="127080" cy="127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1282680" y="6044760"/>
                <a:ext cx="144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1155240" y="6045120"/>
                <a:ext cx="12708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55600" y="610884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2730600" y="598176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4559400" y="598176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6388200" y="598176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20520" y="62182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273000" y="62182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15400" y="62182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 flipH="1">
              <a:off x="2819160" y="6099120"/>
              <a:ext cx="3497040" cy="1800"/>
            </a:xfrm>
            <a:prstGeom prst="line">
              <a:avLst/>
            </a:prstGeom>
            <a:ln w="10152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72920" y="56912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38728E-006 L -0.00191 0.40231 E">
                                      <p:cBhvr>
                                        <p:cTn id="90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4624E-006 L 3.33333E-006 0.19329 E">
                                      <p:cBhvr>
                                        <p:cTn id="9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eaec5e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4572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Graph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&lt; 2 or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≥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143000" y="3567240"/>
            <a:ext cx="6934320" cy="1005120"/>
            <a:chOff x="1143000" y="3567240"/>
            <a:chExt cx="6934320" cy="1005120"/>
          </a:xfrm>
        </p:grpSpPr>
        <p:grpSp>
          <p:nvGrpSpPr>
            <p:cNvPr id="154" name=""/>
            <p:cNvGrpSpPr/>
            <p:nvPr/>
          </p:nvGrpSpPr>
          <p:grpSpPr>
            <a:xfrm>
              <a:off x="1143000" y="3848040"/>
              <a:ext cx="6819840" cy="724320"/>
              <a:chOff x="1143000" y="3848040"/>
              <a:chExt cx="6819840" cy="724320"/>
            </a:xfrm>
          </p:grpSpPr>
          <p:sp>
            <p:nvSpPr>
              <p:cNvPr id="155" name=""/>
              <p:cNvSpPr/>
              <p:nvPr/>
            </p:nvSpPr>
            <p:spPr>
              <a:xfrm>
                <a:off x="1244520" y="3975120"/>
                <a:ext cx="662940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861320" y="3898800"/>
                <a:ext cx="88920" cy="12672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873920" y="3911400"/>
                <a:ext cx="180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7873920" y="3974760"/>
                <a:ext cx="8892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7873560" y="391140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43000" y="3898800"/>
                <a:ext cx="127080" cy="1267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282680" y="3911400"/>
                <a:ext cx="144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1155240" y="391140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155600" y="3975120"/>
                <a:ext cx="12708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730600" y="384804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4559400" y="384804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6388200" y="384804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0520" y="4084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73000" y="4084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615400" y="4084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V="1">
              <a:off x="6400800" y="3962160"/>
              <a:ext cx="1676520" cy="4680"/>
            </a:xfrm>
            <a:prstGeom prst="line">
              <a:avLst/>
            </a:prstGeom>
            <a:ln w="1015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0480" y="356724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c0128"/>
                  </a:solidFill>
                  <a:latin typeface="Times New Roman"/>
                  <a:ea typeface="Lucida Grande"/>
                </a:rPr>
                <a:t>●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33520" y="12794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) Graph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&lt;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2879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) Graph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≥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066320" y="1943280"/>
            <a:ext cx="6896520" cy="1028520"/>
            <a:chOff x="1066320" y="1943280"/>
            <a:chExt cx="6896520" cy="1028520"/>
          </a:xfrm>
        </p:grpSpPr>
        <p:grpSp>
          <p:nvGrpSpPr>
            <p:cNvPr id="175" name=""/>
            <p:cNvGrpSpPr/>
            <p:nvPr/>
          </p:nvGrpSpPr>
          <p:grpSpPr>
            <a:xfrm>
              <a:off x="1143000" y="2247480"/>
              <a:ext cx="6819840" cy="724320"/>
              <a:chOff x="1143000" y="2247480"/>
              <a:chExt cx="6819840" cy="724320"/>
            </a:xfrm>
          </p:grpSpPr>
          <p:sp>
            <p:nvSpPr>
              <p:cNvPr id="176" name=""/>
              <p:cNvSpPr/>
              <p:nvPr/>
            </p:nvSpPr>
            <p:spPr>
              <a:xfrm>
                <a:off x="1244520" y="2374560"/>
                <a:ext cx="662940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861320" y="2298240"/>
                <a:ext cx="88920" cy="12672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873920" y="2310840"/>
                <a:ext cx="180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7873920" y="2374200"/>
                <a:ext cx="8892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flipV="1">
                <a:off x="7873560" y="231084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43000" y="2298240"/>
                <a:ext cx="127080" cy="1267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282680" y="2310840"/>
                <a:ext cx="144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1155240" y="231084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55600" y="2374560"/>
                <a:ext cx="12708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2730600" y="224748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4559400" y="224748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6388200" y="224748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20520" y="248400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273000" y="248400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15400" y="248400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H="1">
              <a:off x="1066320" y="2352600"/>
              <a:ext cx="1600200" cy="1080"/>
            </a:xfrm>
            <a:prstGeom prst="line">
              <a:avLst/>
            </a:prstGeom>
            <a:ln w="10152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16040" y="1943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33520" y="4724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) Combine the graph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066320" y="1943280"/>
            <a:ext cx="6896520" cy="1028880"/>
            <a:chOff x="1066320" y="1943280"/>
            <a:chExt cx="6896520" cy="1028880"/>
          </a:xfrm>
        </p:grpSpPr>
        <p:grpSp>
          <p:nvGrpSpPr>
            <p:cNvPr id="195" name=""/>
            <p:cNvGrpSpPr/>
            <p:nvPr/>
          </p:nvGrpSpPr>
          <p:grpSpPr>
            <a:xfrm>
              <a:off x="1143000" y="2247840"/>
              <a:ext cx="6819840" cy="724320"/>
              <a:chOff x="1143000" y="2247840"/>
              <a:chExt cx="6819840" cy="724320"/>
            </a:xfrm>
          </p:grpSpPr>
          <p:sp>
            <p:nvSpPr>
              <p:cNvPr id="196" name=""/>
              <p:cNvSpPr/>
              <p:nvPr/>
            </p:nvSpPr>
            <p:spPr>
              <a:xfrm>
                <a:off x="1244520" y="2374920"/>
                <a:ext cx="66294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861320" y="2298600"/>
                <a:ext cx="88920" cy="12708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873920" y="2311200"/>
                <a:ext cx="180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7873920" y="237492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7873560" y="2310840"/>
                <a:ext cx="8892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143000" y="2298600"/>
                <a:ext cx="127080" cy="127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1282680" y="2310840"/>
                <a:ext cx="144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1155240" y="2311200"/>
                <a:ext cx="12708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55600" y="237492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2730600" y="22478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559400" y="22478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6388200" y="22478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520520" y="24843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273000" y="24843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15400" y="24843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2516040" y="1943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1066320" y="2352600"/>
              <a:ext cx="1600200" cy="1800"/>
            </a:xfrm>
            <a:prstGeom prst="line">
              <a:avLst/>
            </a:prstGeom>
            <a:ln w="10152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143000" y="3567240"/>
            <a:ext cx="6934320" cy="1005120"/>
            <a:chOff x="1143000" y="3567240"/>
            <a:chExt cx="6934320" cy="1005120"/>
          </a:xfrm>
        </p:grpSpPr>
        <p:grpSp>
          <p:nvGrpSpPr>
            <p:cNvPr id="214" name=""/>
            <p:cNvGrpSpPr/>
            <p:nvPr/>
          </p:nvGrpSpPr>
          <p:grpSpPr>
            <a:xfrm>
              <a:off x="1143000" y="3848040"/>
              <a:ext cx="6819840" cy="724320"/>
              <a:chOff x="1143000" y="3848040"/>
              <a:chExt cx="6819840" cy="724320"/>
            </a:xfrm>
          </p:grpSpPr>
          <p:sp>
            <p:nvSpPr>
              <p:cNvPr id="215" name=""/>
              <p:cNvSpPr/>
              <p:nvPr/>
            </p:nvSpPr>
            <p:spPr>
              <a:xfrm>
                <a:off x="1244520" y="3975120"/>
                <a:ext cx="66294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861320" y="3898800"/>
                <a:ext cx="88920" cy="12708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73920" y="3911400"/>
                <a:ext cx="180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7873920" y="397512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flipV="1">
                <a:off x="7873560" y="3911040"/>
                <a:ext cx="8892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43000" y="3898800"/>
                <a:ext cx="127080" cy="127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1282680" y="3911040"/>
                <a:ext cx="144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1155240" y="3911400"/>
                <a:ext cx="12708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155600" y="397512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2730600" y="38480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4559400" y="38480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6388200" y="384804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520520" y="4084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273000" y="4084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615400" y="4084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6090480" y="356724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c0128"/>
                  </a:solidFill>
                  <a:latin typeface="Times New Roman"/>
                  <a:ea typeface="Lucida Grande"/>
                </a:rPr>
                <a:t>●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400800" y="3962160"/>
              <a:ext cx="1676520" cy="4680"/>
            </a:xfrm>
            <a:prstGeom prst="line">
              <a:avLst/>
            </a:prstGeom>
            <a:ln w="1015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24855E-007 L 0 0.50774 E">
                                      <p:cBhvr>
                                        <p:cTn id="12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5607E-006 L 3.33333E-006 0.27306 E">
                                      <p:cBhvr>
                                        <p:cTn id="132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) Which inequalities describe the following grap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52560" y="1447920"/>
            <a:ext cx="6819840" cy="1028520"/>
            <a:chOff x="952560" y="1447920"/>
            <a:chExt cx="6819840" cy="1028520"/>
          </a:xfrm>
        </p:grpSpPr>
        <p:grpSp>
          <p:nvGrpSpPr>
            <p:cNvPr id="234" name=""/>
            <p:cNvGrpSpPr/>
            <p:nvPr/>
          </p:nvGrpSpPr>
          <p:grpSpPr>
            <a:xfrm>
              <a:off x="952560" y="1752120"/>
              <a:ext cx="6819840" cy="724320"/>
              <a:chOff x="952560" y="1752120"/>
              <a:chExt cx="6819840" cy="724320"/>
            </a:xfrm>
          </p:grpSpPr>
          <p:sp>
            <p:nvSpPr>
              <p:cNvPr id="235" name=""/>
              <p:cNvSpPr/>
              <p:nvPr/>
            </p:nvSpPr>
            <p:spPr>
              <a:xfrm>
                <a:off x="1054080" y="1879200"/>
                <a:ext cx="662940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670880" y="1802880"/>
                <a:ext cx="88920" cy="12672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683480" y="1815480"/>
                <a:ext cx="180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7683480" y="1878840"/>
                <a:ext cx="8892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7683120" y="181548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952560" y="1802880"/>
                <a:ext cx="127080" cy="12672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1092240" y="1815480"/>
                <a:ext cx="1440" cy="12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964800" y="181548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965160" y="1879200"/>
                <a:ext cx="127080" cy="6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2540160" y="175212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4368960" y="175212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6197760" y="175212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61320" y="1988640"/>
                <a:ext cx="3405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014160" y="1988640"/>
                <a:ext cx="3405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58000" y="1988640"/>
                <a:ext cx="3405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 flipH="1">
              <a:off x="2629080" y="1869840"/>
              <a:ext cx="3497040" cy="1080"/>
            </a:xfrm>
            <a:prstGeom prst="line">
              <a:avLst/>
            </a:prstGeom>
            <a:ln w="10152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83200" y="146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25600" y="14479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AnswerNow"/>
          <p:cNvGrpSpPr/>
          <p:nvPr/>
        </p:nvGrpSpPr>
        <p:grpSpPr>
          <a:xfrm>
            <a:off x="127080" y="4952880"/>
            <a:ext cx="4444920" cy="698400"/>
            <a:chOff x="127080" y="4952880"/>
            <a:chExt cx="4444920" cy="698400"/>
          </a:xfrm>
        </p:grpSpPr>
        <p:sp>
          <p:nvSpPr>
            <p:cNvPr id="254" name="ANShape"/>
            <p:cNvSpPr/>
            <p:nvPr/>
          </p:nvSpPr>
          <p:spPr>
            <a:xfrm>
              <a:off x="2190600" y="495288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ANText"/>
            <p:cNvSpPr/>
            <p:nvPr/>
          </p:nvSpPr>
          <p:spPr>
            <a:xfrm>
              <a:off x="127080" y="514332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CorShape1"/>
          <p:cNvSpPr/>
          <p:nvPr/>
        </p:nvSpPr>
        <p:spPr>
          <a:xfrm rot="10800000">
            <a:off x="452160" y="324000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&gt; -3 or y &lt; 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&gt; -3 and y &lt; 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≤ -3 or 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3 and y ≤ 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da4b5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ritten this way, it is the same thing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&lt;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3200" spc="-1" strike="noStrike">
                <a:solidFill>
                  <a:srgbClr val="00279f"/>
                </a:solidFill>
                <a:latin typeface="Times New Roman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an be rewritten as m &gt; 6 and m &lt; 8 and graphed as previously shown, howev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easier to graph everyt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6 and 8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) Graph the compound inequal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6 &lt; m &lt;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143000" y="5486400"/>
            <a:ext cx="6819840" cy="1029240"/>
            <a:chOff x="1143000" y="5486400"/>
            <a:chExt cx="6819840" cy="1029240"/>
          </a:xfrm>
        </p:grpSpPr>
        <p:grpSp>
          <p:nvGrpSpPr>
            <p:cNvPr id="261" name=""/>
            <p:cNvGrpSpPr/>
            <p:nvPr/>
          </p:nvGrpSpPr>
          <p:grpSpPr>
            <a:xfrm>
              <a:off x="1143000" y="5791320"/>
              <a:ext cx="6819840" cy="724320"/>
              <a:chOff x="1143000" y="5791320"/>
              <a:chExt cx="6819840" cy="724320"/>
            </a:xfrm>
          </p:grpSpPr>
          <p:sp>
            <p:nvSpPr>
              <p:cNvPr id="262" name=""/>
              <p:cNvSpPr/>
              <p:nvPr/>
            </p:nvSpPr>
            <p:spPr>
              <a:xfrm>
                <a:off x="1244520" y="5918400"/>
                <a:ext cx="66294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861320" y="5842080"/>
                <a:ext cx="88920" cy="12708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73920" y="5854680"/>
                <a:ext cx="180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873920" y="5918400"/>
                <a:ext cx="8892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flipV="1">
                <a:off x="7873560" y="5854320"/>
                <a:ext cx="8892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143000" y="5842080"/>
                <a:ext cx="127080" cy="127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1282680" y="5854320"/>
                <a:ext cx="1440" cy="12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1155240" y="5854680"/>
                <a:ext cx="12708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155600" y="5918400"/>
                <a:ext cx="127080" cy="6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730600" y="579132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559400" y="579132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388200" y="5791320"/>
                <a:ext cx="1440" cy="21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520520" y="602784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273000" y="602784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615400" y="602784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H="1">
              <a:off x="2819520" y="5908680"/>
              <a:ext cx="3497040" cy="1440"/>
            </a:xfrm>
            <a:prstGeom prst="line">
              <a:avLst/>
            </a:prstGeom>
            <a:ln w="10152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73640" y="5500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16040" y="5486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) Which is equivalent t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3 &lt; y &lt; 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&gt; -3 or y &lt;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&gt; -3 and y &lt;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&lt; -3 or y &gt;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&lt; -3 and y &gt;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CorShape1"/>
          <p:cNvSpPr/>
          <p:nvPr/>
        </p:nvSpPr>
        <p:spPr>
          <a:xfrm>
            <a:off x="223920" y="2859120"/>
            <a:ext cx="291960" cy="291960"/>
          </a:xfrm>
          <a:prstGeom prst="rightArrow">
            <a:avLst>
              <a:gd name="adj1" fmla="val 43981"/>
              <a:gd name="adj2" fmla="val 50810"/>
            </a:avLst>
          </a:prstGeom>
          <a:gradFill rotWithShape="0">
            <a:gsLst>
              <a:gs pos="0">
                <a:srgbClr val="008000"/>
              </a:gs>
              <a:gs pos="100000">
                <a:srgbClr val="00ff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AnswerNow"/>
          <p:cNvGrpSpPr/>
          <p:nvPr/>
        </p:nvGrpSpPr>
        <p:grpSpPr>
          <a:xfrm>
            <a:off x="304920" y="5181480"/>
            <a:ext cx="4444920" cy="698400"/>
            <a:chOff x="304920" y="5181480"/>
            <a:chExt cx="4444920" cy="698400"/>
          </a:xfrm>
        </p:grpSpPr>
        <p:sp>
          <p:nvSpPr>
            <p:cNvPr id="284" name="ANShape"/>
            <p:cNvSpPr/>
            <p:nvPr/>
          </p:nvSpPr>
          <p:spPr>
            <a:xfrm>
              <a:off x="2368440" y="518148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NText"/>
            <p:cNvSpPr/>
            <p:nvPr/>
          </p:nvSpPr>
          <p:spPr>
            <a:xfrm>
              <a:off x="304920" y="537192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) Which is equivalent t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x &gt; -5 and x ≤ 1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 &lt; x ≤ 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 &gt; x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 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 &gt; x ≤ 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 &lt; x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AnswerNow"/>
          <p:cNvGrpSpPr/>
          <p:nvPr/>
        </p:nvGrpSpPr>
        <p:grpSpPr>
          <a:xfrm>
            <a:off x="304920" y="5181480"/>
            <a:ext cx="4444920" cy="698400"/>
            <a:chOff x="304920" y="5181480"/>
            <a:chExt cx="4444920" cy="698400"/>
          </a:xfrm>
        </p:grpSpPr>
        <p:sp>
          <p:nvSpPr>
            <p:cNvPr id="289" name="ANShape"/>
            <p:cNvSpPr/>
            <p:nvPr/>
          </p:nvSpPr>
          <p:spPr>
            <a:xfrm>
              <a:off x="2368440" y="518148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ANText"/>
            <p:cNvSpPr/>
            <p:nvPr/>
          </p:nvSpPr>
          <p:spPr>
            <a:xfrm>
              <a:off x="304920" y="537192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CorShape1"/>
          <p:cNvSpPr/>
          <p:nvPr/>
        </p:nvSpPr>
        <p:spPr>
          <a:xfrm rot="10800000">
            <a:off x="161640" y="199512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8cf4ea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)  2x &lt; -6 and 3x ≥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each inequality for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each in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the 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 they inters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do not! x cannot be greater than or equal to 4 and less than -3 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</a:rPr>
              <a:t>No 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5408640" y="1066680"/>
          <a:ext cx="231300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8640" y="1066680"/>
                    <a:ext cx="231300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484960" y="3365640"/>
          <a:ext cx="1449360" cy="158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4960" y="3365640"/>
                    <a:ext cx="1449360" cy="15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8" name=""/>
          <p:cNvGrpSpPr/>
          <p:nvPr/>
        </p:nvGrpSpPr>
        <p:grpSpPr>
          <a:xfrm>
            <a:off x="5333760" y="2362320"/>
            <a:ext cx="2971800" cy="1000080"/>
            <a:chOff x="5333760" y="2362320"/>
            <a:chExt cx="2971800" cy="1000080"/>
          </a:xfrm>
        </p:grpSpPr>
        <p:grpSp>
          <p:nvGrpSpPr>
            <p:cNvPr id="299" name=""/>
            <p:cNvGrpSpPr/>
            <p:nvPr/>
          </p:nvGrpSpPr>
          <p:grpSpPr>
            <a:xfrm>
              <a:off x="5333760" y="2684520"/>
              <a:ext cx="2971800" cy="677880"/>
              <a:chOff x="5333760" y="2684520"/>
              <a:chExt cx="2971800" cy="67788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5518080" y="2684520"/>
                <a:ext cx="2787480" cy="677880"/>
                <a:chOff x="5518080" y="2684520"/>
                <a:chExt cx="2787480" cy="677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559480" y="2786400"/>
                  <a:ext cx="271008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264520" y="2725200"/>
                  <a:ext cx="36000" cy="101880"/>
                </a:xfrm>
                <a:custGeom>
                  <a:avLst/>
                  <a:gdLst/>
                  <a:ahLst/>
                  <a:rect l="l" t="t" r="r" b="b"/>
                  <a:pathLst>
                    <a:path w="56" h="80">
                      <a:moveTo>
                        <a:pt x="0" y="0"/>
                      </a:moveTo>
                      <a:lnTo>
                        <a:pt x="0" y="80"/>
                      </a:lnTo>
                      <a:lnTo>
                        <a:pt x="56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269560" y="2735280"/>
                  <a:ext cx="720" cy="101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V="1">
                  <a:off x="8269560" y="2786040"/>
                  <a:ext cx="36000" cy="50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 flipV="1">
                  <a:off x="8269560" y="2735280"/>
                  <a:ext cx="36000" cy="51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518080" y="2725200"/>
                  <a:ext cx="51840" cy="1018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80" y="80"/>
                      </a:moveTo>
                      <a:lnTo>
                        <a:pt x="80" y="0"/>
                      </a:lnTo>
                      <a:lnTo>
                        <a:pt x="0" y="40"/>
                      </a:lnTo>
                      <a:lnTo>
                        <a:pt x="8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5574960" y="2734920"/>
                  <a:ext cx="360" cy="101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>
                  <a:off x="5523120" y="2735280"/>
                  <a:ext cx="51840" cy="51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523120" y="2786400"/>
                  <a:ext cx="51840" cy="50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6166800" y="2684520"/>
                  <a:ext cx="360" cy="17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6914520" y="2684520"/>
                  <a:ext cx="360" cy="17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7662240" y="2684520"/>
                  <a:ext cx="360" cy="17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769440" y="2874600"/>
                  <a:ext cx="34056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554240" y="2874600"/>
                  <a:ext cx="20484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993280" y="2874600"/>
                  <a:ext cx="34056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-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 flipH="1">
                <a:off x="5333760" y="2766960"/>
                <a:ext cx="1523880" cy="1440"/>
              </a:xfrm>
              <a:prstGeom prst="line">
                <a:avLst/>
              </a:prstGeom>
              <a:ln w="10152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6707160" y="23623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594400" y="4867200"/>
            <a:ext cx="2940120" cy="1000080"/>
            <a:chOff x="5594400" y="4867200"/>
            <a:chExt cx="2940120" cy="1000080"/>
          </a:xfrm>
        </p:grpSpPr>
        <p:grpSp>
          <p:nvGrpSpPr>
            <p:cNvPr id="319" name=""/>
            <p:cNvGrpSpPr/>
            <p:nvPr/>
          </p:nvGrpSpPr>
          <p:grpSpPr>
            <a:xfrm>
              <a:off x="5594400" y="5189400"/>
              <a:ext cx="2787120" cy="677880"/>
              <a:chOff x="5594400" y="5189400"/>
              <a:chExt cx="2787120" cy="677880"/>
            </a:xfrm>
          </p:grpSpPr>
          <p:sp>
            <p:nvSpPr>
              <p:cNvPr id="320" name=""/>
              <p:cNvSpPr/>
              <p:nvPr/>
            </p:nvSpPr>
            <p:spPr>
              <a:xfrm>
                <a:off x="5635800" y="5291280"/>
                <a:ext cx="27097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340480" y="5230080"/>
                <a:ext cx="36000" cy="10188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345520" y="5240160"/>
                <a:ext cx="720" cy="10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8345520" y="5290920"/>
                <a:ext cx="36000" cy="5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8345520" y="5240160"/>
                <a:ext cx="36000" cy="5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94400" y="5230080"/>
                <a:ext cx="51840" cy="1018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5651280" y="5239800"/>
                <a:ext cx="360" cy="10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5599440" y="5240160"/>
                <a:ext cx="51840" cy="5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599440" y="5291280"/>
                <a:ext cx="51840" cy="5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6243120" y="5189400"/>
                <a:ext cx="360" cy="17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6990840" y="5189400"/>
                <a:ext cx="360" cy="17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7738200" y="5189400"/>
                <a:ext cx="360" cy="17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914160" y="53794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630560" y="53794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136560" y="53794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flipV="1">
              <a:off x="7086600" y="5270400"/>
              <a:ext cx="1447920" cy="1440"/>
            </a:xfrm>
            <a:prstGeom prst="line">
              <a:avLst/>
            </a:prstGeom>
            <a:ln w="1015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83120" y="4867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c0128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594400" y="4876920"/>
            <a:ext cx="2940120" cy="1000080"/>
            <a:chOff x="5594400" y="4876920"/>
            <a:chExt cx="2940120" cy="1000080"/>
          </a:xfrm>
        </p:grpSpPr>
        <p:grpSp>
          <p:nvGrpSpPr>
            <p:cNvPr id="338" name=""/>
            <p:cNvGrpSpPr/>
            <p:nvPr/>
          </p:nvGrpSpPr>
          <p:grpSpPr>
            <a:xfrm>
              <a:off x="5594400" y="5199120"/>
              <a:ext cx="2787120" cy="677880"/>
              <a:chOff x="5594400" y="5199120"/>
              <a:chExt cx="2787120" cy="677880"/>
            </a:xfrm>
          </p:grpSpPr>
          <p:sp>
            <p:nvSpPr>
              <p:cNvPr id="339" name=""/>
              <p:cNvSpPr/>
              <p:nvPr/>
            </p:nvSpPr>
            <p:spPr>
              <a:xfrm>
                <a:off x="5635800" y="5301000"/>
                <a:ext cx="270972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340480" y="5239800"/>
                <a:ext cx="36000" cy="101880"/>
              </a:xfrm>
              <a:custGeom>
                <a:avLst/>
                <a:gdLst/>
                <a:ahLst/>
                <a:rect l="l" t="t" r="r" b="b"/>
                <a:pathLst>
                  <a:path w="56" h="80">
                    <a:moveTo>
                      <a:pt x="0" y="0"/>
                    </a:moveTo>
                    <a:lnTo>
                      <a:pt x="0" y="80"/>
                    </a:lnTo>
                    <a:lnTo>
                      <a:pt x="56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345520" y="5249880"/>
                <a:ext cx="720" cy="10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8345520" y="5300640"/>
                <a:ext cx="36000" cy="5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flipV="1">
                <a:off x="8345520" y="5249880"/>
                <a:ext cx="36000" cy="5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594400" y="5239800"/>
                <a:ext cx="51840" cy="1018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80"/>
                    </a:moveTo>
                    <a:lnTo>
                      <a:pt x="80" y="0"/>
                    </a:lnTo>
                    <a:lnTo>
                      <a:pt x="0" y="40"/>
                    </a:lnTo>
                    <a:lnTo>
                      <a:pt x="8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5651280" y="5249520"/>
                <a:ext cx="360" cy="10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599440" y="5249880"/>
                <a:ext cx="51840" cy="5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599440" y="5301000"/>
                <a:ext cx="51840" cy="5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6243120" y="5199120"/>
                <a:ext cx="360" cy="17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6990840" y="5199120"/>
                <a:ext cx="360" cy="17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7738200" y="5199120"/>
                <a:ext cx="360" cy="17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914160" y="538920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0560" y="538920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136560" y="538920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flipV="1">
              <a:off x="7086600" y="5280120"/>
              <a:ext cx="1447920" cy="1440"/>
            </a:xfrm>
            <a:prstGeom prst="line">
              <a:avLst/>
            </a:prstGeom>
            <a:ln w="1015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783120" y="48769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c0128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333760" y="2362320"/>
            <a:ext cx="2971800" cy="1000080"/>
            <a:chOff x="5333760" y="2362320"/>
            <a:chExt cx="2971800" cy="1000080"/>
          </a:xfrm>
        </p:grpSpPr>
        <p:grpSp>
          <p:nvGrpSpPr>
            <p:cNvPr id="357" name=""/>
            <p:cNvGrpSpPr/>
            <p:nvPr/>
          </p:nvGrpSpPr>
          <p:grpSpPr>
            <a:xfrm>
              <a:off x="5333760" y="2684520"/>
              <a:ext cx="2971800" cy="677880"/>
              <a:chOff x="5333760" y="2684520"/>
              <a:chExt cx="2971800" cy="67788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5518080" y="2684520"/>
                <a:ext cx="2787480" cy="677880"/>
                <a:chOff x="5518080" y="2684520"/>
                <a:chExt cx="2787480" cy="6778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5559480" y="2786400"/>
                  <a:ext cx="2710080" cy="1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8264520" y="2725200"/>
                  <a:ext cx="36000" cy="101880"/>
                </a:xfrm>
                <a:custGeom>
                  <a:avLst/>
                  <a:gdLst/>
                  <a:ahLst/>
                  <a:rect l="l" t="t" r="r" b="b"/>
                  <a:pathLst>
                    <a:path w="56" h="80">
                      <a:moveTo>
                        <a:pt x="0" y="0"/>
                      </a:moveTo>
                      <a:lnTo>
                        <a:pt x="0" y="80"/>
                      </a:lnTo>
                      <a:lnTo>
                        <a:pt x="56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269560" y="2735280"/>
                  <a:ext cx="720" cy="101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8269560" y="2786040"/>
                  <a:ext cx="36000" cy="50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 flipV="1">
                  <a:off x="8269560" y="2735280"/>
                  <a:ext cx="36000" cy="51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518080" y="2725200"/>
                  <a:ext cx="51840" cy="1018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80" y="80"/>
                      </a:moveTo>
                      <a:lnTo>
                        <a:pt x="80" y="0"/>
                      </a:lnTo>
                      <a:lnTo>
                        <a:pt x="0" y="40"/>
                      </a:lnTo>
                      <a:lnTo>
                        <a:pt x="8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5574960" y="2734920"/>
                  <a:ext cx="360" cy="101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5523120" y="2735280"/>
                  <a:ext cx="51840" cy="51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523120" y="2786400"/>
                  <a:ext cx="51840" cy="50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V="1">
                  <a:off x="6166800" y="2684520"/>
                  <a:ext cx="360" cy="17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6914520" y="2684520"/>
                  <a:ext cx="360" cy="17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7662240" y="2684520"/>
                  <a:ext cx="360" cy="173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769440" y="2874600"/>
                  <a:ext cx="34056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554240" y="2874600"/>
                  <a:ext cx="20484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993280" y="2874600"/>
                  <a:ext cx="34056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-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 flipH="1">
                <a:off x="5333760" y="2766960"/>
                <a:ext cx="1523880" cy="1440"/>
              </a:xfrm>
              <a:prstGeom prst="line">
                <a:avLst/>
              </a:prstGeom>
              <a:ln w="10152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707160" y="23623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279f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8728E-006 L -0.40989 0.49549 E">
                                      <p:cBhvr>
                                        <p:cTn id="230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38728E-006 L -0.2217 0.12809 E">
                                      <p:cBhvr>
                                        <p:cTn id="236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6T20:42:35Z</dcterms:created>
  <dc:creator>Skip Tyler</dc:creator>
  <dc:description/>
  <cp:keywords/>
  <dc:language>en-US</dc:language>
  <cp:lastModifiedBy>Parkland High School</cp:lastModifiedBy>
  <cp:lastPrinted>2010-11-02T15:45:33Z</cp:lastPrinted>
  <dcterms:modified xsi:type="dcterms:W3CDTF">2010-11-02T16:25:41Z</dcterms:modified>
  <cp:revision>58</cp:revision>
  <dc:subject/>
  <dc:title>Solving Compound Inequalities</dc:title>
</cp:coreProperties>
</file>